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9B7D-44B9-4FD4-BF76-0F750A409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B0C9-1D2F-46E3-9AFC-DEEA2C552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164B-9B97-456C-80FA-AF972594C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D048-5422-4B31-ACD5-434327E10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C03A9-3D50-4958-89FB-33B8E5473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37513-0F19-4422-8CF7-56688480C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BF138-CFE5-43B4-9412-4F6B22C64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5EC64-3314-4943-87E1-55896CE78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F2AF8-AF52-4B47-A25A-12616B91A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5AEDC-02D8-428E-90B4-4B9BB7EF4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F30E8-2689-412D-8B2C-0151DB188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9079-B80F-4C23-930A-C03033F69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FD3BB-036A-493D-A756-816B6ADF6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CBA29-5BAE-4F5A-B2BE-4E3CCCA8B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66946-E4E9-4A34-A330-B41618EAC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85CE7-8B15-4C97-8CEB-3EB7F3204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1DA12-76CD-49A1-90F6-CA979D0DD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168A4-E271-427B-A815-16BDF41E2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C48D6-2390-4C03-A5DA-20A0511CE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A60D6-1A26-403E-8DCB-4F7FC7DF3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F8921-9D04-45AF-8103-3D5736DF7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9B90F-6B4C-43F9-BD05-C8AA784F0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1136-AC32-4BFF-B7F7-CD897690F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DCA9D-2A6A-4107-8CE2-12974FD9F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41DC3-43AA-490A-8AF0-2F7405B27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F5D35-CADA-45E8-BC1C-DFECA6355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10C52-C1BB-4D01-8FBC-FB34C5643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E4AAF-AC06-484A-AF23-BE5D36EB0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3D19E-724C-4CED-8BD5-2A96CD898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FB66B-3917-422E-A0A2-31C32567B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AEF435-876A-4F2A-9F65-EA8471613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05EC1-567B-46DA-991A-5786CD850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85F94C-3D50-4A15-AB5F-166024892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1CFB-63FF-4797-9B05-B806C4CE6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A803A-B4D2-4012-BC9A-E1C22C2C1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2C4C4-EC02-4DD6-AF91-956A5B30C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ADEF1-6523-4A23-AECC-757784EE4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F23B7-F6A6-45F9-B14D-F8FEDB4B9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DF5A7-5A12-4C1B-981C-B79D0A74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1E4E6-5DB1-4DF2-AB86-7F741DB35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42BF8-910D-4916-AB99-CCE8DA02A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C0E07-B508-457D-8B65-113A9A073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4AD11-D72C-4E08-9466-F601BE499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C88911-A8E0-4698-8DF9-E2A0EF81B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4C33-6000-4770-A41E-8D29BEBBA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31CA94-5A2B-4DE8-803D-BFE73CF57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DBA25A-D7E7-4383-A1AF-29A1CBA96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46E537-2B44-4696-99B8-18657FC03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EB5487-8B86-4158-910D-412A121A6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7E1A42-EE06-43CB-8E11-BA5F9C300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711279-E47C-4900-98E5-B970B5C07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D1B6E5-466C-4513-9FA9-47591D31F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5226DD-C7AA-4653-99FC-F30EF5139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83FD1B-C225-4F4C-9DC0-1602CE418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7F5620-F559-4697-B1E5-6DA658675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CCC5-05B3-4E92-8712-E8E99E6D4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E3B351-C9DD-4C42-9C98-6FD9598D0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60D9-E65C-4B71-A1AE-16D2FBC25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0517-5423-4201-AACE-719B5D18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8536-7E67-42F5-AC45-E4459B9A0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B8B64-BF70-4223-9DBD-2C4447D8C13E}" type="slidenum"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9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CDB4F-EC2E-4D84-83F9-CA98F4642072}" type="slidenum"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ight Triangle 9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C3D1D-1DD8-4264-97F9-CEC849B8374A}" type="slidenum"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ight Triangle 9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6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666AF-8B57-44E4-8764-91C8759CE933}" type="slidenum">
              <a:rPr b="0" lang="sr-Latn-CS" sz="1600" spc="-1" strike="noStrike">
                <a:solidFill>
                  <a:srgbClr val="4343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45CE9-546C-4E2E-80A3-33942267C8F1}" type="slidenum"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 rot="19140000">
            <a:off x="817200" y="1729800"/>
            <a:ext cx="5648400" cy="120492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Franklin Gothic Medium"/>
              </a:rPr>
              <a:t>БОГАТИМО РЕЧНИК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 rot="19140000">
            <a:off x="1212480" y="2469960"/>
            <a:ext cx="6510240" cy="3301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ПРИДЕВИ</a:t>
            </a:r>
            <a:r>
              <a:rPr b="0" lang="sr-Latn-RS" sz="1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-</a:t>
            </a:r>
            <a:r>
              <a:rPr b="0" lang="sr-RS" sz="1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СУПРОТНОСТИ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Franklin Gothic Medium"/>
              </a:rPr>
              <a:t>ДЕФИНИЦИЈА ПРИДЕВА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Franklin Gothic Book"/>
              </a:rPr>
              <a:t>Придеви описују какво је нешто : лепо, велико, црно...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Franklin Gothic Book"/>
              </a:rPr>
              <a:t>Постоје придеви који означавају супротности.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Franklin Gothic Book"/>
              </a:rPr>
              <a:t>Погледајмо их!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Franklin Gothic Book"/>
              </a:rPr>
              <a:t>Прва  књига је затворена, а друга књига је отворена.  </a:t>
            </a: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Franklin Gothic Book"/>
              </a:rPr>
              <a:t>Покажи отворену књигу!                                                   </a:t>
            </a: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20" name="Picture 4" descr="022"/>
          <p:cNvPicPr/>
          <p:nvPr/>
        </p:nvPicPr>
        <p:blipFill>
          <a:blip r:embed="rId1"/>
          <a:stretch/>
        </p:blipFill>
        <p:spPr>
          <a:xfrm>
            <a:off x="1116000" y="3429000"/>
            <a:ext cx="2160720" cy="16542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023"/>
          <p:cNvPicPr/>
          <p:nvPr/>
        </p:nvPicPr>
        <p:blipFill>
          <a:blip r:embed="rId2"/>
          <a:stretch/>
        </p:blipFill>
        <p:spPr>
          <a:xfrm>
            <a:off x="5651640" y="3429000"/>
            <a:ext cx="223200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Franklin Gothic Medium"/>
              </a:rPr>
              <a:t>КАФА ЈЕ ВРУЋА, А КАКАВ ЈЕ СЛАДОЛЕД?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23" name="Picture 4" descr="028"/>
          <p:cNvPicPr/>
          <p:nvPr/>
        </p:nvPicPr>
        <p:blipFill>
          <a:blip r:embed="rId1"/>
          <a:stretch/>
        </p:blipFill>
        <p:spPr>
          <a:xfrm>
            <a:off x="611280" y="3213000"/>
            <a:ext cx="1657080" cy="15940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029"/>
          <p:cNvPicPr/>
          <p:nvPr/>
        </p:nvPicPr>
        <p:blipFill>
          <a:blip r:embed="rId2"/>
          <a:stretch/>
        </p:blipFill>
        <p:spPr>
          <a:xfrm>
            <a:off x="5580000" y="3645000"/>
            <a:ext cx="148608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8091360" cy="173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Franklin Gothic Medium"/>
              </a:rPr>
              <a:t>ПРВИ ЏЕМПЕР ЈЕ ПРЉАВ, А ДРУГИ ЈЕ ЧИСТ.</a:t>
            </a:r>
            <a:br>
              <a:rPr sz="4000"/>
            </a:br>
            <a:r>
              <a:rPr b="0" lang="sr-CS" sz="4000" spc="-1" strike="noStrike">
                <a:solidFill>
                  <a:srgbClr val="000000"/>
                </a:solidFill>
                <a:latin typeface="Franklin Gothic Medium"/>
              </a:rPr>
              <a:t>ПОКАЖИ ЏЕМПЕР КОЈИ ЈЕ ЧИСТ!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26" name="Picture 4" descr="038"/>
          <p:cNvPicPr/>
          <p:nvPr/>
        </p:nvPicPr>
        <p:blipFill>
          <a:blip r:embed="rId1"/>
          <a:stretch/>
        </p:blipFill>
        <p:spPr>
          <a:xfrm>
            <a:off x="4068720" y="2319480"/>
            <a:ext cx="1028880" cy="11430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039"/>
          <p:cNvPicPr/>
          <p:nvPr/>
        </p:nvPicPr>
        <p:blipFill>
          <a:blip r:embed="rId2"/>
          <a:stretch/>
        </p:blipFill>
        <p:spPr>
          <a:xfrm>
            <a:off x="755640" y="2276640"/>
            <a:ext cx="187164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Franklin Gothic Medium"/>
              </a:rPr>
              <a:t>ЦИГЛА ЈЕ ТВРДА .</a:t>
            </a:r>
            <a:br>
              <a:rPr sz="4000"/>
            </a:br>
            <a:r>
              <a:rPr b="0" lang="sr-CS" sz="4000" spc="-1" strike="noStrike">
                <a:solidFill>
                  <a:srgbClr val="000000"/>
                </a:solidFill>
                <a:latin typeface="Franklin Gothic Medium"/>
              </a:rPr>
              <a:t>ЈАСТУК ЈЕ МЕКАН.  </a:t>
            </a:r>
            <a:br>
              <a:rPr sz="4000"/>
            </a:br>
            <a:r>
              <a:rPr b="0" lang="sr-CS" sz="4000" spc="-1" strike="noStrike">
                <a:solidFill>
                  <a:srgbClr val="000000"/>
                </a:solidFill>
                <a:latin typeface="Franklin Gothic Medium"/>
              </a:rPr>
              <a:t>КАЖИ ЧЕМУ СЛУЖИ ЈАСТУК, А ЧЕМУ ЦИГЛА?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29" name="Picture 4" descr="Superiska_048"/>
          <p:cNvPicPr/>
          <p:nvPr/>
        </p:nvPicPr>
        <p:blipFill>
          <a:blip r:embed="rId1"/>
          <a:stretch/>
        </p:blipFill>
        <p:spPr>
          <a:xfrm>
            <a:off x="6227640" y="3803760"/>
            <a:ext cx="1047960" cy="11239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Superiska_049"/>
          <p:cNvPicPr/>
          <p:nvPr/>
        </p:nvPicPr>
        <p:blipFill>
          <a:blip r:embed="rId2"/>
          <a:stretch/>
        </p:blipFill>
        <p:spPr>
          <a:xfrm>
            <a:off x="684360" y="4365720"/>
            <a:ext cx="201744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55280" y="907920"/>
            <a:ext cx="752148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Franklin Gothic Medium"/>
              </a:rPr>
              <a:t>ПРВА ЧАША ЈЕ ПУНА СОКА.</a:t>
            </a:r>
            <a:br>
              <a:rPr sz="3600"/>
            </a:br>
            <a:r>
              <a:rPr b="0" lang="sr-CS" sz="3600" spc="-1" strike="noStrike">
                <a:solidFill>
                  <a:srgbClr val="000000"/>
                </a:solidFill>
                <a:latin typeface="Franklin Gothic Medium"/>
              </a:rPr>
              <a:t>ДРУГА ЧАША ЈЕ ПРАЗНА. </a:t>
            </a:r>
            <a:br>
              <a:rPr sz="3600"/>
            </a:br>
            <a:r>
              <a:rPr b="0" lang="sr-CS" sz="3600" spc="-1" strike="noStrike">
                <a:solidFill>
                  <a:srgbClr val="000000"/>
                </a:solidFill>
                <a:latin typeface="Franklin Gothic Medium"/>
              </a:rPr>
              <a:t>ЗАОКРУЖИ ПРАЗНУ ЧАШУ!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32" name="Picture 4" descr="026"/>
          <p:cNvPicPr/>
          <p:nvPr/>
        </p:nvPicPr>
        <p:blipFill>
          <a:blip r:embed="rId1"/>
          <a:stretch/>
        </p:blipFill>
        <p:spPr>
          <a:xfrm>
            <a:off x="611280" y="2708280"/>
            <a:ext cx="1150920" cy="18367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" descr="Superiska_025"/>
          <p:cNvPicPr/>
          <p:nvPr/>
        </p:nvPicPr>
        <p:blipFill>
          <a:blip r:embed="rId2"/>
          <a:stretch/>
        </p:blipFill>
        <p:spPr>
          <a:xfrm>
            <a:off x="4427640" y="2997360"/>
            <a:ext cx="187308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00000" y="364680"/>
            <a:ext cx="7444080" cy="18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Franklin Gothic Medium"/>
              </a:rPr>
              <a:t>СЛОНОВИ СУ ВЕЛИКИ, А МИШЕВИ СУ МАЛИ.</a:t>
            </a:r>
            <a:br>
              <a:rPr sz="4000"/>
            </a:br>
            <a:r>
              <a:rPr b="0" lang="sr-CS" sz="4000" spc="-1" strike="noStrike">
                <a:solidFill>
                  <a:srgbClr val="000000"/>
                </a:solidFill>
                <a:latin typeface="Franklin Gothic Medium"/>
              </a:rPr>
              <a:t>КАЖИ КОЛИКО ИМА СЛОНОВА,  А КОЛИКО МИШЕВА!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35" name="Picture 4" descr="01"/>
          <p:cNvPicPr/>
          <p:nvPr/>
        </p:nvPicPr>
        <p:blipFill>
          <a:blip r:embed="rId1"/>
          <a:stretch/>
        </p:blipFill>
        <p:spPr>
          <a:xfrm>
            <a:off x="468360" y="2637000"/>
            <a:ext cx="3749760" cy="23047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0019"/>
          <p:cNvPicPr/>
          <p:nvPr/>
        </p:nvPicPr>
        <p:blipFill>
          <a:blip r:embed="rId2"/>
          <a:stretch/>
        </p:blipFill>
        <p:spPr>
          <a:xfrm>
            <a:off x="6156360" y="5013360"/>
            <a:ext cx="792000" cy="4874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6" descr="0019"/>
          <p:cNvPicPr/>
          <p:nvPr/>
        </p:nvPicPr>
        <p:blipFill>
          <a:blip r:embed="rId3"/>
          <a:stretch/>
        </p:blipFill>
        <p:spPr>
          <a:xfrm>
            <a:off x="7093080" y="5084640"/>
            <a:ext cx="79200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30T18:51:08Z</dcterms:created>
  <dc:creator>dj</dc:creator>
  <dc:description/>
  <dc:language>en-US</dc:language>
  <cp:lastModifiedBy>Vanja</cp:lastModifiedBy>
  <dcterms:modified xsi:type="dcterms:W3CDTF">2020-04-04T18:52:59Z</dcterms:modified>
  <cp:revision>7</cp:revision>
  <dc:subject/>
  <dc:title>УВОЂЕЊЕ НОВИХ ВРСТА РЕЧИ У ГОВОР</dc:title>
</cp:coreProperties>
</file>